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2C33CB0-85BA-466A-8D3A-9EB22D55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1CF-1F03-4B25-9FCD-26FDD3F1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7B0-5857-4BBC-B40A-02C66759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852-6E9E-4129-BDF7-F705271C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4E7-466F-49FA-A539-8C34776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3EA-7B0B-42B9-BDD4-FBFCF45E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CAA3-E0F2-4E80-8BD6-DF6176DC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101A-0F8A-4B0B-AFC7-B918D58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C29-A935-4C80-970F-2B29E93C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50F-CA60-4E0F-AE41-DA604C9D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3D4E-9CF9-4E3E-A762-3E62F3A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FA3-A075-4D32-AB37-C1F10FA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0D6-32A6-4F9E-BD59-B520750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02E-9D42-4BB8-9BD0-10C25F6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B050-F0CA-46C4-9CA3-85ABD78A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076-E60A-4C10-850E-F6DCDFF3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22C3-D947-4461-9593-5DDEA0A3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ADE1-C129-4F30-8BB4-00033B6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611-48E3-4E8A-94EE-18889149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A55-2695-4BDF-861B-F2F6F2CF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D34-1B4F-4B61-9857-D97CCB6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18F-E312-472D-BBEB-0F1BE02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E8E-690A-4F73-B75B-997F468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EBE-6399-4E1A-9B61-6F86A87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026-FADE-4513-B086-701B405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4975-F128-452B-9B09-B578F37D11B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3E1-4821-4D98-879E-EC858F6EF3A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C78D-9127-4919-AD23-866B5206AAE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0" y="29322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800" y="3470400"/>
            <a:ext cx="8132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2400" y="2378160"/>
            <a:ext cx="88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5440" y="1039680"/>
            <a:ext cx="8475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7472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380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it be used to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pro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Entries on a page(s) of your ch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1T13:41:28Z</dcterms:modified>
  <cp:revision>151</cp:revision>
  <dc:subject/>
  <dc:title>Math GAINS 2008-09</dc:title>
</cp:coreProperties>
</file>